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5E8E-58A2-4D9D-868D-43491DC8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8076-0002-4413-97AD-C08F0878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3FF2-C827-4E2C-8B4A-1E8B1C9D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D5CE-01D5-4D64-B114-06E5EB9D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0E7-8289-4EB3-9050-9C0D67CF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FD1C-2CC9-4968-A887-635B010E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5187-C5D9-413A-A6FB-46E92545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E21B-9411-4E9A-AD38-BFA8E861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1422-24AF-4C10-9C21-9543772E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624E-E46C-4BDB-B3C5-AC8CAB95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F8FF-8B53-472B-A2C4-C6205667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0A48-E25C-43F0-8226-2AB80218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94DB-B94B-471E-BE29-F742AFB17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eb.mit.edu/invent/i-archive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0"/>
            <a:ext cx="5486400" cy="407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elicopter Innovation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715000" y="5029200"/>
            <a:ext cx="3124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2-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00200" y="62485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ee Play Mus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ouncing,5/7/2010,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76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Kaman"/>
          <p:cNvPicPr/>
          <p:nvPr/>
        </p:nvPicPr>
        <p:blipFill>
          <a:blip r:embed="rId1"/>
          <a:srcRect l="0" t="0" r="69932" b="0"/>
          <a:stretch/>
        </p:blipFill>
        <p:spPr>
          <a:xfrm>
            <a:off x="380880" y="380880"/>
            <a:ext cx="3314880" cy="2822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Kaman"/>
          <p:cNvPicPr/>
          <p:nvPr/>
        </p:nvPicPr>
        <p:blipFill>
          <a:blip r:embed="rId2"/>
          <a:srcRect l="62310" t="0" r="-4514" b="46953"/>
          <a:stretch/>
        </p:blipFill>
        <p:spPr>
          <a:xfrm>
            <a:off x="4191120" y="3624120"/>
            <a:ext cx="3962160" cy="2548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114800" y="838080"/>
            <a:ext cx="4114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 baekeland 2/28/20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-archive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Helico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over 50 years Charles 4 Hamannas baon as leading inventor and bus ess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helicopter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ie Kamans has won the awards for his work of the inven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ncluding the service in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ional medal of the techolgy in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memorial was build in 1997 and jan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s name: Charles Ka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man was born in 19/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grew up in Washington 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earned a BS in a aeronautical engineering from catholic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went to work  at Hamilton standard where he lined helicopter indus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me for his invention the Helicopter inv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28:54Z</dcterms:created>
  <dc:creator>install</dc:creator>
  <dc:description/>
  <dc:language>en-US</dc:language>
  <cp:lastModifiedBy>install</cp:lastModifiedBy>
  <dcterms:modified xsi:type="dcterms:W3CDTF">2011-03-11T18:31:38Z</dcterms:modified>
  <cp:revision>8</cp:revision>
  <dc:subject/>
  <dc:title>Slide 1</dc:title>
</cp:coreProperties>
</file>